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008F-9433-4287-A5E3-9D8FEC2B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B1B7-03C8-431D-83A2-438D92DD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5D73-829A-40F8-93F2-A44E32AD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0169-030B-438D-A323-F7AF4067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E079-2E9F-4ED6-8BD2-1E6C3DE9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4D1C-88BB-4B06-920A-107C745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F148-7CA1-4021-BF47-2B68D4EE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F2491-B42B-41DA-A1CF-0F3EB588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A3FC-A179-4843-A175-386173E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36E3-8F33-4DD4-8565-9B9F334B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B1F24-7C8F-43D8-97CB-CFD4B1EE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C2D4-B0C2-4995-AF29-7AAB692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E1C29-7CA2-4237-84BF-1BF1D8E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5270-32C7-4A35-821C-7C1B154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5886-A6C6-4A04-B18E-083D51F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C2D3-9B97-44DE-BA39-74D9270A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3CA61-C457-4A24-A822-C8363EC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C391A-3401-4152-8A34-4E667AA0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67F97-EDB0-4041-80F5-A2B1CEC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F7B30-DE49-4124-98B6-1598A4F7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42AB4-60F3-46C2-9C04-B77294D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C7DF6-8A4E-42F3-9672-FED8DD3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31C1-AF07-4E43-BDEC-D425AD5E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7EF3B-A5F6-4047-AB8A-B6542381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DFAB1-68FB-4FE9-80BE-66973AC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77116-923F-4CA9-B82B-59E06F1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6C433-047F-40AB-ADD0-D2CA4D8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5898B-2F19-4866-8324-3199A3B2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5523C-AD9E-4FD4-95D4-0E16D635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2F87-45A7-456D-96F6-DC52FCCB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AC62-12D5-4AF6-BA84-447387D9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E8EA-519A-4ECC-BC56-6EDDB46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6AD4-E487-4F84-9368-8D51935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0C22-A0BC-47FF-B5BE-0073230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DE39-28CB-428D-A5B9-AE93125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E3EE-142E-43CE-845B-23CEE06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36A8-CA79-4DAD-9FB0-DED46C2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0011-6376-47D4-9848-96B6597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3A3A-96DF-4C59-BCDE-CF7B859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DB1D-DA80-483D-94C1-D077E96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33FD-07D7-4C4F-A1D5-F6C0C49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44BB-F9C3-49D8-8B11-F3964FAF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99A6-0AFE-4E6F-B150-9C0130F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9424-D026-4B7D-B90D-E0322387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1864-25C5-4A80-B9CF-1F723FE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4239-FFEC-4DF4-BD3A-106D3AE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ED312-65BC-4951-B61D-C8EE201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8F72-D212-413F-9107-E013122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B37B-3395-4494-A98E-ECF80FD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B608-B107-4E1B-AB03-53C61EE6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BE35-F150-413D-9EF6-70DA24F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BE6B-D35E-4E50-8A33-F29C509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E639-B8C5-4367-9A3D-724D230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D7AD-8A7E-4563-841C-D8C44C57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4F66-630E-4D0D-9A1F-4679D244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0DFE-6F99-42C9-A9A3-F4F5E90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E6BA-4B97-42F8-BC59-07DBC459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2EE2-1649-4994-A3A6-3B56E5B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6A0F-C4BA-40B0-8A8F-53C5833C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9981-3814-4F8E-8F5F-2AA2AB4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874-AC3A-44BF-8D11-ECF6DE1D59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8BA-025C-405A-A86D-442E3F3A13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4471-68F2-4FEE-86B9-A8030E4FAC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8E9-8583-4FD0-AD01-A1162972F9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2A3-298C-4970-8B33-48A53F0888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68360" y="333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комим детей с их правам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2483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Выполнимой декларацию сделает только работа наших с вами душ и ума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3168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ли нам знать свои пра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Что нам даст знание наших прав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Что такое право, права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Реализуются ли в жизни наши права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Предметные области –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правовое  воспита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Участники 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дети старшего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24000" y="177336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4652640"/>
            <a:ext cx="723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ать детям дошкольного возраста элементарные знания и представления о Международном документе по защите прав ребенка </a:t>
            </a:r>
            <a:br>
              <a:rPr sz="4000"/>
            </a:br>
            <a:br>
              <a:rPr sz="4000"/>
            </a:br>
            <a:r>
              <a:rPr b="0" lang="en-US" sz="21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5280" y="1052640"/>
            <a:ext cx="769608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знакомить детей с основными правами и свободами, документами: «Декларация прав ребенка», «Конвенция о правах ребенк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учить детей применять их в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репить полученные знания через изобразительную деятельность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092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74396"/>
                </a:solidFill>
                <a:latin typeface="Comic Sans MS"/>
              </a:rPr>
              <a:t>Продукты деятельности –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рисунки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11280" y="12679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Подготовительн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поиск и изучение литер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занятия по ознакомлению детей             с их правам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3. Заключительн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изобразительная деятельность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ей; создание альбо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-800640"/>
            <a:ext cx="6870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тап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11280" y="12679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а ребенка: основные международные докумен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комим дошкольников с Конвенцией о правах ребе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ши права. Шабельник Е.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ализация Конвенции в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800640"/>
            <a:ext cx="6870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15:02Z</dcterms:created>
  <dc:creator>студент</dc:creator>
  <dc:description/>
  <dc:language>en-US</dc:language>
  <cp:lastModifiedBy>МПРКЯ</cp:lastModifiedBy>
  <dcterms:modified xsi:type="dcterms:W3CDTF">2009-05-29T17:53:33Z</dcterms:modified>
  <cp:revision>9</cp:revision>
  <dc:subject/>
  <dc:title>Знакомим детей с их правами</dc:title>
</cp:coreProperties>
</file>